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04D-BC6D-499B-905E-317A6430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72C-5E45-4881-BFB7-5B691F30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C7E-377E-4A3F-ABB4-977C8DE7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647-BC02-434B-89E2-CC6CF4D8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FD09-4B1F-4A41-A5AC-E923CDB0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B94B-F7FE-43B0-97DC-A812679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EA20-AC66-4440-837B-A9A333C5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F4CD-1776-4E84-9E0A-82D76487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8781-2C9B-4E94-BD83-7195B433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95F4-1D69-4AB7-BAD6-889EE0AA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12E9-9397-4A8B-A404-023A8F54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036-615D-4982-8DA9-7C8E155E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AFF9-9CF6-4844-A4F2-EA7D013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3271-ED91-48C4-8DA2-2213186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2358-CDDA-4064-9397-2A66589C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A18E-6AF1-4D90-B791-E5B9B3B0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3424-F910-4DF4-85C6-8E0C8BE6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A05-7608-4251-B5C4-C5E10BA0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625-2F32-48BC-AE69-951C3F11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849-96E2-409E-A9CE-2EB020FF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94E-01AC-42FD-A729-7488BD40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D5B-F49A-47BA-B5D2-7A4F06F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D1A-BC61-444A-AC1E-27C24208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8EF-E342-4168-B6FD-499E8C35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8B9C-8F92-4556-9EF2-E085D6B95222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1EC3-E952-44C7-B331-533839D251C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st Taking Tip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paring for the PSSA’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werful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udents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ing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ieve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1 Preview the passage and questions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rst, run your eyes over the whole passage.  Read the title, the introduction (if there is one), and any headings or subheading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ook for bold prin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ook at any charts, graphs, photos or illustra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xt, make a guess what the passage is going to be abou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n, preview the questions prior to reading the passa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2: Read the entire passage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through each passage from beginning to end before answering any questions.  This will help you find the main idea - what the passage is mostly about.  You don’t have to memorize every detail as you go.  Just focus on getting the big pictur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may want to stop and go over a difficult idea to make sure you understand it.  That’s okay.  Just be careful not to get stuck.  Keep moving until you come to the end of the passa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3: Read the questions and answer choices carefully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each question slowly and carefully.  Make sure you understand what the question is asking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n’t jump ahead to pick an answer before you’ve read all the answer choices.  The first choice may look good, but the last choice may look even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ds such as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best, mo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a test question are reminders to select the best answer among those give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4: Answer every question, even if you have to guess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f you aren’t sure of an answer, give it your best guess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fore guessing, cross out any choices that seem wro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if you are completely clueless?  A blind guess is better than no guess at all.  If you don’t answer a question, you can’t possibly get it righ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5: Base your answers on information from the passage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 reading test measures how well you read.  It is not trying to figure out how much you already know about the topic of the passage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lways remember to base your answers mainly on the information in the passag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75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p #6: Relax, and have fun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Just as astronauts train for a shuttle mission, you have been training for taking this test all year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 on test day, sit back, relax, and have fun.  Celebrate the knowledge you have learned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e Are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end your time wise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k your best answ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ways do your be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check your answe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nk positive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                </a:t>
            </a:r>
            <a:r>
              <a:rPr b="1" lang="en-US" sz="4400" spc="-1" strike="noStrike">
                <a:solidFill>
                  <a:srgbClr val="330000"/>
                </a:solidFill>
                <a:latin typeface="Arial"/>
              </a:rPr>
              <a:t>Cookies!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638680" y="3276720"/>
            <a:ext cx="266724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0:40:13Z</dcterms:created>
  <dc:creator>West Shore  School District</dc:creator>
  <dc:description/>
  <dc:language>en-US</dc:language>
  <cp:lastModifiedBy>West Shore  School District</cp:lastModifiedBy>
  <dcterms:modified xsi:type="dcterms:W3CDTF">2010-03-29T01:39:05Z</dcterms:modified>
  <cp:revision>6</cp:revision>
  <dc:subject/>
  <dc:title>Test Taking Tips</dc:title>
</cp:coreProperties>
</file>